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ECD-4DC3-46DC-B43A-E12F22E8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09D-3D36-4FDA-86B0-7BD8BFE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A7B-FECC-4F17-96EE-24D34E2B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FFA-FBC3-40CD-A2E4-A7CEE2EF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C15-11A3-47F9-8C98-12F0D05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A2A-DC63-4D99-99F1-3091AD1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2C6-83CC-4F08-A96C-7C2C9E52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B60-BD8B-48A6-BD5C-CDED995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8F7-F440-4364-8E25-6C6F59B6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7E7-6D60-4754-8569-9A5F2F9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10D-E2B6-4665-AE06-9177290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24C-2F42-4B46-BE44-97963EED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AE6-E953-4C78-B680-5F8113B24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ing and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it come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umption/Juris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-writing and trial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s it changed deb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 over tr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Fl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nemon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ects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-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-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3760" y="1523880"/>
            <a:ext cx="90964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ctics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(not) to write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o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-fl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h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   -&gt;      ^     v     !     (t)     (s)     T/     (TI)     (L) =/=     x____    Ext.    Heg   +    Econ    (W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gest Flowing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ty, Irrelevant Position,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ng 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Sp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turning the page 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start writing till the tag FINI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h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breviate and use symb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columns AND empty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-by-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g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ence and Labels (embedded or no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v. Trigg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r n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6:00:54Z</dcterms:created>
  <dc:creator>Thomas</dc:creator>
  <dc:description/>
  <dc:language>en-US</dc:language>
  <cp:lastModifiedBy>The Adams Family</cp:lastModifiedBy>
  <dcterms:modified xsi:type="dcterms:W3CDTF">2012-08-29T13:03:26Z</dcterms:modified>
  <cp:revision>4</cp:revision>
  <dc:subject/>
  <dc:title>Flowing</dc:title>
</cp:coreProperties>
</file>